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1AF9-A7FB-4406-BAE8-2AE512821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8A7C-F6B2-428C-99E8-BAAB800D5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C326-2434-4091-AC98-66F5BEDB3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C020-BB0A-4F27-AC28-C415D9D07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4BF-1F1D-459A-A2EA-C76308055F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D09-86B5-465B-A538-19F0EE45D7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8D9-E192-41CB-82DD-3EDE03F3A2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6DD-7243-4FE6-B298-D9455F2010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36A-A3BC-4A32-AE46-CCEB9C3EA0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075-F7EE-46E2-A48B-E1E9E34CAB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1CF-C3FF-4C1D-BF61-C969DE844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599B-53DD-48F9-A5E1-3F3CF2A31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4E3-B7D0-4B20-82FE-4995C5827B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C5E-B8E9-4350-B36C-50AFCC7EE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32D-82E0-4C26-9CB2-DE4EC623B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04F-474C-45E8-8D1E-C86E94051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596-52F9-4B9D-8CDA-3E1D83A2A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6400-742A-4A68-8A6B-5706D9141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59DD-15CE-4CEC-A1E7-241AE6E45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D630-D087-4710-AAF0-52937B9D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806E-0942-4CFB-A183-4AC57F5B6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696A-E130-4F57-A385-F4E79354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F4A6-454D-435C-9BB0-B986B2B4C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8EF8-7FB3-438E-A631-9D423ADE3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3E45-F831-4693-B17E-5067D1894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2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5320" y="6585120"/>
            <a:ext cx="6019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Panasonic System Networks Co., Ltd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222-FF82-441F-9C9B-A4AABB86A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Panasonic System Networks Co., Ltd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B96-011F-4249-8F77-3F06E0159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57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 System Networks Co.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364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3 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4089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.1.0.0.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X-TGP600/HDV1xx/HDV230/HDV330 s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guration File Check Tool Manu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F34-1B12-47A8-90C8-6F42436F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42960" y="900000"/>
            <a:ext cx="83869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scribes abo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file check t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91960" y="43164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about thi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99880" y="1311120"/>
            <a:ext cx="24526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ion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4600" y="1676520"/>
          <a:ext cx="8204040" cy="3133440"/>
        </p:xfrm>
        <a:graphic>
          <a:graphicData uri="http://schemas.openxmlformats.org/drawingml/2006/table">
            <a:tbl>
              <a:tblPr/>
              <a:tblGrid>
                <a:gridCol w="1270080"/>
                <a:gridCol w="1296720"/>
                <a:gridCol w="2125800"/>
                <a:gridCol w="351144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mware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3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5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1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19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61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1.064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230 (01.013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3,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98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2.016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230 (01.032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330 (01.016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35"/>
          <p:cNvSpPr/>
          <p:nvPr/>
        </p:nvSpPr>
        <p:spPr>
          <a:xfrm>
            <a:off x="328680" y="5137200"/>
            <a:ext cx="8461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NET is registered trademarks or trademarks of Microsoft Corp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United States and/or other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product screen shot(s) reprinted with permission from Microsoft Corp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ther trademarks identified herein are the property of their respective ow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1CC1-BCB2-4BEA-B185-CB4F5D9E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452600" y="182088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8640" y="4737240"/>
            <a:ext cx="8393400" cy="1361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・ 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soft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®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.NET Framework(4.5)” is required for installation and use of this tool.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(Other versions doesn’t support this tool)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For details, please refer to the information of Microsoft Corp.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52600" y="277812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How to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52600" y="373536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How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5587920" y="1154160"/>
            <a:ext cx="2914560" cy="220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"/>
          <p:cNvPicPr/>
          <p:nvPr/>
        </p:nvPicPr>
        <p:blipFill>
          <a:blip r:embed="rId2"/>
          <a:stretch/>
        </p:blipFill>
        <p:spPr>
          <a:xfrm>
            <a:off x="463680" y="4102200"/>
            <a:ext cx="2950920" cy="2227320"/>
          </a:xfrm>
          <a:prstGeom prst="rect">
            <a:avLst/>
          </a:prstGeom>
          <a:ln w="0">
            <a:noFill/>
          </a:ln>
        </p:spPr>
      </p:pic>
      <p:sp>
        <p:nvSpPr>
          <p:cNvPr id="104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57D-4FF4-4C96-BA5B-E6640323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How to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47960" y="62244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Execute the “setupVx_x_x_x.ex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43640" y="3632040"/>
            <a:ext cx="30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Select a Destination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65080" y="62244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グループ化 1"/>
          <p:cNvGrpSpPr/>
          <p:nvPr/>
        </p:nvGrpSpPr>
        <p:grpSpPr>
          <a:xfrm>
            <a:off x="501480" y="1211400"/>
            <a:ext cx="2951280" cy="2239920"/>
            <a:chOff x="501480" y="1211400"/>
            <a:chExt cx="2951280" cy="2239920"/>
          </a:xfrm>
        </p:grpSpPr>
        <p:pic>
          <p:nvPicPr>
            <p:cNvPr id="111" name="Picture 20" descr=""/>
            <p:cNvPicPr/>
            <p:nvPr/>
          </p:nvPicPr>
          <p:blipFill>
            <a:blip r:embed="rId3"/>
            <a:stretch/>
          </p:blipFill>
          <p:spPr>
            <a:xfrm>
              <a:off x="501480" y="1211400"/>
              <a:ext cx="295128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13"/>
            <p:cNvSpPr/>
            <p:nvPr/>
          </p:nvSpPr>
          <p:spPr>
            <a:xfrm>
              <a:off x="2275200" y="3214080"/>
              <a:ext cx="581040" cy="209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6"/>
          <p:cNvSpPr/>
          <p:nvPr/>
        </p:nvSpPr>
        <p:spPr>
          <a:xfrm>
            <a:off x="2784600" y="4711680"/>
            <a:ext cx="581040" cy="20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257560" y="6081840"/>
            <a:ext cx="5810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7353360" y="3127320"/>
            <a:ext cx="5810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5A6-5DA0-4590-80B5-AD8CA5D1A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How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39760" y="801720"/>
            <a:ext cx="790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Click “Launch cfg_checktool.exe” on the desk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nother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xecutable file is stored in the following fil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:¥Program Files¥SIP-Phone_cfgchecktool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“cfg_checktool.exe” in above f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985680" y="2682720"/>
            <a:ext cx="42195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576360" y="2273400"/>
            <a:ext cx="4878360" cy="3009960"/>
          </a:xfrm>
          <a:prstGeom prst="rect">
            <a:avLst/>
          </a:prstGeom>
          <a:ln w="0">
            <a:noFill/>
          </a:ln>
        </p:spPr>
      </p:pic>
      <p:sp>
        <p:nvSpPr>
          <p:cNvPr id="122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62C0-4DA0-4269-8E62-DA1E8490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41200" y="803160"/>
            <a:ext cx="79059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elect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Input the configuration file name directly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“File open” and select the configuration file from fil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lick “Start check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754600" y="2301840"/>
            <a:ext cx="273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Selectabl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TGP60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1xx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23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33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302080" y="4500720"/>
            <a:ext cx="165420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 th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09480" y="5321160"/>
            <a:ext cx="460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If you want to save the result, check “Save the check resul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*You can not select the firmware version. (It is backward compatibl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5038560" y="4824360"/>
            <a:ext cx="111600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898640" y="2851200"/>
            <a:ext cx="3328920" cy="279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866880" y="4032360"/>
            <a:ext cx="4360680" cy="93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2"/>
          <a:stretch/>
        </p:blipFill>
        <p:spPr>
          <a:xfrm>
            <a:off x="6154560" y="4968720"/>
            <a:ext cx="1619280" cy="1132200"/>
          </a:xfrm>
          <a:prstGeom prst="rect">
            <a:avLst/>
          </a:prstGeom>
          <a:ln w="0">
            <a:noFill/>
          </a:ln>
        </p:spPr>
      </p:pic>
      <p:sp>
        <p:nvSpPr>
          <p:cNvPr id="133" name="Line 16"/>
          <p:cNvSpPr/>
          <p:nvPr/>
        </p:nvSpPr>
        <p:spPr>
          <a:xfrm flipV="1">
            <a:off x="5227560" y="2531880"/>
            <a:ext cx="558720" cy="441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09480" y="5056200"/>
            <a:ext cx="1289160" cy="22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"/>
          <p:cNvPicPr/>
          <p:nvPr/>
        </p:nvPicPr>
        <p:blipFill>
          <a:blip r:embed="rId1"/>
          <a:stretch/>
        </p:blipFill>
        <p:spPr>
          <a:xfrm>
            <a:off x="942840" y="3284640"/>
            <a:ext cx="391500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F0E-F0F4-4EF9-93C2-2B2B6EDD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79360" y="546120"/>
            <a:ext cx="21495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Pass th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57200" y="89856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errors line is displayed. (The checker shows only error line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228600" y="4307040"/>
            <a:ext cx="711360" cy="261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Line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31840" y="4613400"/>
            <a:ext cx="711000" cy="261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Line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857840" y="4255920"/>
            <a:ext cx="3016080" cy="26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8 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Space” is including in the valu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861080" y="4641840"/>
            <a:ext cx="3016080" cy="26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9 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Line feed” is miss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1943280" y="4357800"/>
            <a:ext cx="85680" cy="16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2492280" y="4641840"/>
            <a:ext cx="1886040" cy="190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0" descr=""/>
          <p:cNvPicPr/>
          <p:nvPr/>
        </p:nvPicPr>
        <p:blipFill>
          <a:blip r:embed="rId2"/>
          <a:stretch/>
        </p:blipFill>
        <p:spPr>
          <a:xfrm>
            <a:off x="606600" y="1235160"/>
            <a:ext cx="50940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905040" y="1806480"/>
            <a:ext cx="358128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AAD-3D90-49DA-BD6D-645E44849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57200" y="898560"/>
            <a:ext cx="80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configuration file was modified the following, it passed the check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820880" y="3046320"/>
            <a:ext cx="27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863640" y="3489480"/>
            <a:ext cx="1577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2"/>
          <a:stretch/>
        </p:blipFill>
        <p:spPr>
          <a:xfrm>
            <a:off x="5029200" y="1806480"/>
            <a:ext cx="16192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永野</cp:lastModifiedBy>
  <dcterms:modified xsi:type="dcterms:W3CDTF">2016-02-03T07:45:5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